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B69-E435-4286-A9BE-CFB4DF96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AC2-8359-4971-B03F-52E6E40C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F29-989B-4375-88B3-26A8B594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497-0467-4633-A76A-FD292E1F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F92-7E17-4934-9192-27835395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D29-489B-4D8C-95BD-9CDF5C42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228-287C-4F14-BBC9-DD8F8258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125-AB5D-4382-BE0C-7D9C30AB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2C0-8008-4CDE-BA59-3F1F9178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6E1-20D6-4262-83DF-CC0D3938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114-9555-469D-A173-E5AEA98A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2A5-56CF-447E-9F72-F9E7D6C3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DCAA-2F88-4D20-A0E3-A36D6E38F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0"/>
            <a:ext cx="3429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ec. 10-6: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Testing 2 Means Small Dependent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endent S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s whose values ARE RELATED to each other.  (Before/After sit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st Stat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032280" y="3200400"/>
                <a:ext cx="2163600" cy="19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733920" y="3276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320040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2959200"/>
            <a:ext cx="1600200" cy="317520"/>
          </a:xfrm>
          <a:custGeom>
            <a:avLst/>
            <a:gdLst/>
            <a:ahLst/>
            <a:rect l="l" t="t" r="r" b="b"/>
            <a:pathLst>
              <a:path w="1008" h="200">
                <a:moveTo>
                  <a:pt x="0" y="152"/>
                </a:moveTo>
                <a:cubicBezTo>
                  <a:pt x="228" y="76"/>
                  <a:pt x="456" y="0"/>
                  <a:pt x="624" y="8"/>
                </a:cubicBezTo>
                <a:cubicBezTo>
                  <a:pt x="792" y="16"/>
                  <a:pt x="900" y="108"/>
                  <a:pt x="1008" y="2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4100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est #2 in you graphing calc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obtain d and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using ONE-VAR-STATS in your calculat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.V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 obtained from Table F.  Since you dealing with ONE set of data there is only one d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828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828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5335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** The key to these particular problems comes in writing the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you basically have ONE group of objects that you’re doing 2 things to, you will be comparing the numerical results to ZERO.  In other words your claims will now look lik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≤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…Can you conclude that study sessions improved PSSA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worst to better so a small # to a bigger #, the difference would be NEGATIVE…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…..Do the “Biggest Loser’s” actually lose w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the weights should be larger to begin with and smaller at the end….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 # - Small # = positive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fidence Interv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#9 in calcul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01:39:40Z</dcterms:created>
  <dc:creator>jgonzale</dc:creator>
  <dc:description/>
  <dc:language>en-US</dc:language>
  <cp:lastModifiedBy>jgonzale</cp:lastModifiedBy>
  <dcterms:modified xsi:type="dcterms:W3CDTF">2009-04-19T16:29:15Z</dcterms:modified>
  <cp:revision>5</cp:revision>
  <dc:subject/>
  <dc:title>Sec. 10-6: Testing 2 Means Small Dependent Samples</dc:title>
</cp:coreProperties>
</file>